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04559"/>
        <c:axId val="86792965"/>
      </c:barChart>
      <c:catAx>
        <c:axId val="60404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92965"/>
        <c:crosses val="autoZero"/>
        <c:auto val="1"/>
        <c:lblAlgn val="ctr"/>
        <c:lblOffset val="100"/>
        <c:noMultiLvlLbl val="0"/>
      </c:catAx>
      <c:valAx>
        <c:axId val="86792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04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DD3-FCA7-4345-8C69-9E7DAA6B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959-0748-4E91-B104-F84EA3D3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870-F675-4880-A949-DC3CCF2D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CF0-8F3B-42E5-B327-606E77F2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4DB-DBB6-4CBE-90B9-419FCCA9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F84-7D9E-4278-97B6-C8C5B0AD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1D9-CF1B-4156-934B-13BAEF14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0F7-84C7-4C17-A121-74321B2B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184-8CE0-4736-8153-786F4EC2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079-414F-4792-9239-3D8384C2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617-04BD-4C74-8289-AF1E4ED2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DE6-4790-4EC1-AEB7-6A92BA33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15F04-DC7B-4067-BCA0-247E45D7C8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