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0827"/>
        <c:axId val="36659543"/>
      </c:barChart>
      <c:catAx>
        <c:axId val="8440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59543"/>
        <c:crosses val="autoZero"/>
        <c:auto val="1"/>
        <c:lblAlgn val="ctr"/>
        <c:lblOffset val="100"/>
        <c:noMultiLvlLbl val="0"/>
      </c:catAx>
      <c:valAx>
        <c:axId val="36659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0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47A-1A3B-4C94-BD55-DC40EADB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810-F1BF-450A-97CD-74CFB9CB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5B3-673A-46B1-B736-EA2634B8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7BC-89EA-44DE-B301-BFDD1775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C1F-F419-4AD9-8A3F-E2FB5C48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610-55C4-4374-B06E-F8DADF74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AEA-788B-48CC-A1AA-A7C3580D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F73-637D-47A8-B4C4-D860EE64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264-DA1D-4DD3-A65E-17F9067B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E7F-DF61-4BB1-A504-40EB0BAF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37D-DCB6-4145-BEE9-13E934B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9E9-EBDB-4442-A207-B48BD3F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60579-B5F5-410E-AD37-1C01609091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