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22877"/>
        <c:axId val="39631769"/>
      </c:barChart>
      <c:catAx>
        <c:axId val="54722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31769"/>
        <c:crosses val="autoZero"/>
        <c:auto val="1"/>
        <c:lblAlgn val="ctr"/>
        <c:lblOffset val="100"/>
        <c:noMultiLvlLbl val="0"/>
      </c:catAx>
      <c:valAx>
        <c:axId val="39631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22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6AC-DA4A-4DE1-BE70-3CD51718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B07-6C9C-47BF-8EA1-C470B4C6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1CD-3E26-402A-B1A9-99B4C2F8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3A1-4B18-4CA4-A051-C66B9BAF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A32-6A93-432A-BD9B-DD5C4B3F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FED-36FF-4523-8486-E41B9547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F6C-6B1B-4B86-93D6-42890852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217-89E3-4F81-A239-2AF49734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735-1CB5-4484-A510-CA5B9C5D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8F9-8D40-48C0-AAA2-BB7D56E5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F25-242E-4DDC-9651-E60E0858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932-20DE-4AA4-AC09-728E665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181C5-6A63-4905-83B4-E892C5FFDD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