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93173"/>
        <c:axId val="79144626"/>
      </c:barChart>
      <c:catAx>
        <c:axId val="13793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4626"/>
        <c:crosses val="autoZero"/>
        <c:auto val="1"/>
        <c:lblAlgn val="ctr"/>
        <c:lblOffset val="100"/>
        <c:noMultiLvlLbl val="0"/>
      </c:catAx>
      <c:valAx>
        <c:axId val="79144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93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3C3-808F-4F70-90B4-CA677E48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320-2D51-47CF-A8F6-A8340B8E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AB6-E8B9-4D9E-9A74-65D0F8F1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AB7-C3E5-47A8-B2EA-7EA51CB1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CCB-6D45-48A8-BC69-85719D6D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726-366D-4B36-A526-56C417F8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6DA-30BC-4790-8E6C-571660F3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E16-40FB-447A-888B-C49E7DC6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BB0-6E02-424D-9102-777DDC03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865-E16D-4114-8492-EFADEF55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CE3-6945-44D1-AD09-98A385E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6ED-DA99-4014-BBEC-43504319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F3F02-966B-43BB-8BDE-736CA97427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