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66175"/>
        <c:axId val="23231999"/>
      </c:barChart>
      <c:catAx>
        <c:axId val="68766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31999"/>
        <c:crosses val="autoZero"/>
        <c:auto val="1"/>
        <c:lblAlgn val="ctr"/>
        <c:lblOffset val="100"/>
        <c:noMultiLvlLbl val="0"/>
      </c:catAx>
      <c:valAx>
        <c:axId val="23231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6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CD3-76F8-4125-856F-63F1610D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328-6174-458D-B1B8-9082A679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1A4-B5DB-4347-B8D8-F423682B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169-058B-4FBD-8157-832BB0C8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B29-2D32-46A4-9ACE-82ECEC5A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8B7-B46F-4845-877D-66444F77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F12-230C-4BAF-9239-7F9001C2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131-6D80-49B6-9784-7654CC01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551-304C-4180-AC67-D76C8A94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EB7-D03A-4CCF-B4B5-8CF67B77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2E9-5F01-490B-A028-5C8435D2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551-68AC-4DD2-9587-018EA0DE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FEC1B-1A7D-4AB3-94A1-2311123FF5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