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30612"/>
        <c:axId val="89500497"/>
      </c:barChart>
      <c:catAx>
        <c:axId val="616306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00497"/>
        <c:crosses val="autoZero"/>
        <c:auto val="1"/>
        <c:lblAlgn val="ctr"/>
        <c:lblOffset val="100"/>
        <c:noMultiLvlLbl val="0"/>
      </c:catAx>
      <c:valAx>
        <c:axId val="89500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306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DFD-3D76-4AC9-B185-0654D7A2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570-DD40-450D-AEC0-E617BB8F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85C-6357-467C-A606-BD989643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552-334E-468C-A008-AEECC820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486-2AE5-42BA-AD49-ECFEBDAD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494-754C-49E6-A5E7-D7B10D06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E59-DC1D-4263-A688-F538A3FE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69D-FAC0-454D-BF0A-F919DB6C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F3B-81C0-4037-8462-776730C4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E79-F3C5-4110-840B-12346A1E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414-6336-475E-B639-9B692E1A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56F7-75E5-4B57-9CB6-DFD4B62F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AB1C7-87E1-42DD-8B8C-6424C8E0B2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