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60472"/>
        <c:axId val="16045633"/>
      </c:barChart>
      <c:catAx>
        <c:axId val="2876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45633"/>
        <c:crosses val="autoZero"/>
        <c:auto val="1"/>
        <c:lblAlgn val="ctr"/>
        <c:lblOffset val="100"/>
        <c:noMultiLvlLbl val="0"/>
      </c:catAx>
      <c:valAx>
        <c:axId val="16045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62E-7F81-4C50-BEA7-350ED639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799-09CA-4B4E-BD7B-676894F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F20-8F8B-4075-93CF-66B0807E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47B-A4D1-4173-AEB2-9E05D175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9EC-CCC2-4167-8DEA-1685693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DC8-E0C7-4F3C-A02A-2FFD1CA1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813-5C9F-4952-8BCD-1A7A43B9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661-D653-4906-A569-73B5A76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E0B-5357-4F00-B6F4-81CB9F11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EB0-A3B6-452A-B24F-6B21430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E8B-B35C-4A65-BFD0-78EA8909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752-80B5-46CF-B0F8-33EFF8A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6A385-89B0-4EDC-A268-38C981785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