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67872"/>
        <c:axId val="297449"/>
      </c:barChart>
      <c:catAx>
        <c:axId val="51167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49"/>
        <c:crosses val="autoZero"/>
        <c:auto val="1"/>
        <c:lblAlgn val="ctr"/>
        <c:lblOffset val="100"/>
        <c:noMultiLvlLbl val="0"/>
      </c:catAx>
      <c:valAx>
        <c:axId val="297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7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1AB-6D45-443E-AADB-F2F58B98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73E-B120-4BBF-946F-23C22023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755-DE0A-4F4B-B06C-D16D38FE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384-D64A-44D6-AD60-2F024F30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B3D-6F53-43E8-8E9C-39756E68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6D6-840A-4B26-BC38-D4457669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4EE-FDC4-43E2-8479-FB46248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D61-1219-4EF3-BD4A-12C91A5A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C11-422C-48C7-9AEB-13D5BD3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13D-3D3F-4747-92E3-BC1E3C2B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351-4BAB-4DD8-A7AE-FA54B3AA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94C-3473-4163-9BAF-1A5A5F5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EB1F-EDE4-482E-AC42-02488CD20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