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1541"/>
        <c:axId val="14137932"/>
      </c:barChart>
      <c:catAx>
        <c:axId val="8001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37932"/>
        <c:crosses val="autoZero"/>
        <c:auto val="1"/>
        <c:lblAlgn val="ctr"/>
        <c:lblOffset val="100"/>
        <c:noMultiLvlLbl val="0"/>
      </c:catAx>
      <c:valAx>
        <c:axId val="14137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1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E6A-6C1A-462B-9254-16C2A9BC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9E0-C8FA-42C9-9D4A-5DD97815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DB5-DB7D-46C5-A0CC-13EA3BDA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034-AEB3-44F1-B781-848334CE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F0C-B6DE-4D2B-BA96-CCEED2C1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008-DD99-4A95-A55D-F55C8AE4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26E-6948-4F55-8344-EFFDA80C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439-CD6B-42EA-A363-E980084B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27C-24FD-4E22-8D6E-92ED9D0A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691-72F4-4DA8-8036-64C5EE4B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E67-37E8-4616-A6C9-FDB1524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F8F-7988-4208-B96F-6063AD9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DC114-0251-467B-9B83-9003ECFF12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