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36193"/>
        <c:axId val="81666168"/>
      </c:barChart>
      <c:catAx>
        <c:axId val="45936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66168"/>
        <c:crosses val="autoZero"/>
        <c:auto val="1"/>
        <c:lblAlgn val="ctr"/>
        <c:lblOffset val="100"/>
        <c:noMultiLvlLbl val="0"/>
      </c:catAx>
      <c:valAx>
        <c:axId val="81666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36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10D-FF94-4B87-92B0-7876FEAA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139-E44D-4E49-9C6D-C1232334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F13-882C-4246-9632-0B43D1F7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437-33AF-4729-BCA3-B5E38063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0D7-04F5-407E-B917-2A84DA70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37C-4F6E-4F01-B279-088ECF18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0F5-AE62-49FE-8E93-4A665C81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66AA-1A81-4D89-A86C-1776F3E4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3FF-24BD-4C21-AD20-12EC20F0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E84-46ED-407D-92D4-230E529F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A2C-D852-4BE1-992B-4769CF7B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7CC-4D03-4FB9-8552-EC0712DE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168E0-F369-41A8-80CA-E64B0F6D41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