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680490"/>
        <c:axId val="5241819"/>
      </c:barChart>
      <c:catAx>
        <c:axId val="206804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1819"/>
        <c:crosses val="autoZero"/>
        <c:auto val="1"/>
        <c:lblAlgn val="ctr"/>
        <c:lblOffset val="100"/>
        <c:noMultiLvlLbl val="0"/>
      </c:catAx>
      <c:valAx>
        <c:axId val="52418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804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CE3A-E16A-4FE8-AE76-5C54B5863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CD5B-AC96-4A57-8D99-C31EC4DE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401D-8444-4FF3-AFB2-954D12285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700C-BD16-4DE3-9CD0-73A81814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53EA-237A-49BC-887E-B7402DA5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7A60-C8DC-4BAE-B8E3-995A0925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F80F-203F-4B04-9F2D-62BE6152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CCD3-B652-481C-8D15-E23C6F62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1889-B556-4EFB-89E1-F3474AA9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CED2-8B08-4C83-B7AF-A07ABBFB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8C15-EAD3-49E8-9E5E-39745C43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A497-C8F1-43EA-84B5-CA0BDA7C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E648D-175D-4537-99A5-1D36B0D9B6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