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73842"/>
        <c:axId val="84726326"/>
      </c:barChart>
      <c:catAx>
        <c:axId val="44073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26326"/>
        <c:crosses val="autoZero"/>
        <c:auto val="1"/>
        <c:lblAlgn val="ctr"/>
        <c:lblOffset val="100"/>
        <c:noMultiLvlLbl val="0"/>
      </c:catAx>
      <c:valAx>
        <c:axId val="84726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73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B54-8A0E-4ADD-81B8-10EE1E00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585-BB1C-4DF9-ABE1-722D45B5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00A-F3D9-4C2A-81B6-60D62B14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3C8-8C34-4D47-A662-64CD9E58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DFE-7AC5-4612-9690-44A747E5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0C8-A789-4DDE-BDFC-38C53474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4FD-A76D-44D0-9232-AEE49282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8B0-E6AF-4A95-8DBE-64F969C3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970-52D1-412C-957C-2CBA7608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75E-5C56-4D92-B198-8D52B675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F82-533B-4B3B-81AA-44CFE8CA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51F-68C4-415C-8921-C8EA17D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77E8D-CF6A-4B80-90B9-091E329DD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