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403714"/>
        <c:axId val="61867505"/>
      </c:barChart>
      <c:catAx>
        <c:axId val="444037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867505"/>
        <c:crosses val="autoZero"/>
        <c:auto val="1"/>
        <c:lblAlgn val="ctr"/>
        <c:lblOffset val="100"/>
        <c:noMultiLvlLbl val="0"/>
      </c:catAx>
      <c:valAx>
        <c:axId val="618675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4037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D4B7-DE2B-4555-BF41-E3E1BEE7D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2267-CBC1-46A3-AC88-7A63E6F93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0AE2-02FB-4693-ADE7-9E9F1DAD4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F992-EA81-47FE-94B5-2628722B3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A5AA-597B-4E92-A7E1-A1245F7C1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7F02-754B-4C9A-B3AE-5EDF1E78C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DBCA-F043-4EC9-A5A9-2D61AEB68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16C3-88ED-47D0-BF48-C08987C8B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A258-B011-4766-A567-CC9F1C78C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BB32-6051-4078-909A-CC167F515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C5A5-BD5E-4F48-BD9A-81809C35B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0DC1-6170-452A-9CA9-FD83DA6E9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1EF308-A315-485D-AC27-67A81782D3F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