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33259"/>
        <c:axId val="78923085"/>
      </c:barChart>
      <c:catAx>
        <c:axId val="49433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23085"/>
        <c:crosses val="autoZero"/>
        <c:auto val="1"/>
        <c:lblAlgn val="ctr"/>
        <c:lblOffset val="100"/>
        <c:noMultiLvlLbl val="0"/>
      </c:catAx>
      <c:valAx>
        <c:axId val="78923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33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FBB-55A8-424D-80B3-F04BA6A4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551-7EB4-4498-9A27-F5F38564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222-BDE6-476D-BEB6-3980B4D4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FDF-D51C-4FE4-B162-E2A080EB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6C5-B3C7-4C31-90B1-641474DB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929-B90A-4684-ADF9-D201626F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290-571D-4558-BAD3-4EBBFB77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58B-1464-4EA2-924F-4930DAC0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271-7583-48B8-A9F9-CB70AF54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E12-5D67-4BC4-9DA4-79D50CCE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B4D-E7A8-4EDA-843C-58A7B513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CDF-DE01-437C-A0B9-7EC06FC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AD8E0-85D0-4327-866C-B76218F305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